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AD51-585A-440E-A403-7BBBBE81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9E1-EAF3-4BCE-984B-4F940A7C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07AF-D945-4284-86BF-A24313BE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3DD-CA73-4516-8133-FC05027C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CF0F-2C9D-45C2-B87C-25E2E3AD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9B0-BD0F-48C2-9516-E148C9B8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CCB-ED04-48A6-9BC6-19AC1EF9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9430-C547-4C4F-BD51-EBB87D3F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C1E-4953-42DC-86F1-BEFA51E9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CDA4-3350-443D-AFBE-3154923C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690E-39A7-4CD5-AA2F-326DD93C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A0D6-8A34-4353-B2A3-48C89B01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DDD6-76D6-4DEE-9E3E-7075C8709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d Scarecr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yne’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d Scarecr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ade a scarecrow for the front yard every year, but this year it was b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2711520"/>
            <a:ext cx="3581640" cy="3408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eyeballs are too far apart its teeth are too croo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2971800" cy="3408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n’t enough hay. But my dad said it was per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2890800" cy="2895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08840" y="3962520"/>
            <a:ext cx="3035160" cy="2895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n’t that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6:18:19Z</dcterms:created>
  <dc:creator>student</dc:creator>
  <dc:description/>
  <dc:language>en-US</dc:language>
  <cp:lastModifiedBy>student</cp:lastModifiedBy>
  <dcterms:modified xsi:type="dcterms:W3CDTF">2010-10-28T18:00:19Z</dcterms:modified>
  <cp:revision>7</cp:revision>
  <dc:subject/>
  <dc:title>The bad scarecrow</dc:title>
</cp:coreProperties>
</file>